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D65-2633-4343-93E6-28C257CF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27EB-F4D7-4252-8A7D-19A6C243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1E8F-5B82-4388-B13D-3A068D73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BC18-93B6-4766-ADB7-422FF7FE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E2D0-BE8E-439F-918E-1A990DC0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4995-B96D-4E91-95AC-C8254964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C4DD-D9EC-4C21-9EDD-D452E9D9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7DDD-FD4E-4CE5-A2B8-69E67664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FB91-6725-4860-935F-F55F125D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0222-D5D2-4521-9DCB-0E683EC5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92A5-D4E9-430A-A7AD-9E30FE8C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8D7-7332-4E60-B33E-AFC484FE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E0C7-6F6D-46D7-AFD3-20AB7C27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F15D-5624-4C61-828D-F71C5F94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AB24-1655-4F90-A4CA-7C443ECA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ADB1-1D1A-4A3B-8790-E5CDB5C3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95C7-1A17-4990-A4EC-8750B056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A9A7-AC73-471B-83E0-615513BE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71D-D488-4EF6-946D-F51121D4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641-9F91-408F-9389-2672CDEA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BDE1-077C-4663-8114-38FE9398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5016-9FF2-4FCE-BE8B-840BED64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0A12-09F9-4F80-BA89-05DE8BEF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E274-311D-49CF-A17C-EBA2BA1E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25B2-B4FF-4B25-8BC5-4C6DF7981BAB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A7F4-7528-4461-9172-D86B4941873E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Networked Information System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Types of Information System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ypesofisys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ifferent types of IS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-process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e Automation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ment Inform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ive Information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Suppor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esofisys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ransaction-Processing Syst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PS, (or Operational systems) designed to process data generated by an organisation’s day-to-day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ata acquired by TPs and proc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oduce information for workers, managers, eg. stock lists, pay ad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gs, sales order processing, invoicing, payroll, 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esofisys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ransaction-Processing Syst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Types of TPS proces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ine TP, transactions processed as they are entered into a T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ch processing, transactions grouped together &amp; processed as a batch, eg. banks &amp; che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esofisys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ffice Automation Syst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interpersonal communication such as e-mail, voice mail, WP,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s &amp; internet facilitate the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esofisys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nagement Information Systems (MIS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the work of middle managers &amp; senior managers by producing structured, summarised &amp; exception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. summary stock reports, exception sales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 manipulates data from the T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esofisys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cision Support Syst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s middle &amp; senior managers to make decisions by summarising or comparing data or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obtained from internal or external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PS &amp; MIS, eg. invoices, stock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info., economic forecast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c/f with TPS &amp; MIS, analyse data &amp; solv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financi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esofisys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pert Syst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bines the knowledge of human experts into a computer-based system that simulates aspects of human reasoning &amp; decision-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oftware program that consists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tored base of knowledge in a specialised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et of rules applied to a particular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ield of artificial intelligence, computer simulating human intelligence &amp; dec.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esofisys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3T10:43:23Z</dcterms:created>
  <dc:creator>cc</dc:creator>
  <dc:description/>
  <dc:language>en-US</dc:language>
  <cp:lastModifiedBy>Kelvin Baird</cp:lastModifiedBy>
  <cp:lastPrinted>2000-05-03T21:02:36Z</cp:lastPrinted>
  <dcterms:modified xsi:type="dcterms:W3CDTF">2007-01-04T03:55:19Z</dcterms:modified>
  <cp:revision>8</cp:revision>
  <dc:subject/>
  <dc:title>Organisations &amp; Information Systems</dc:title>
</cp:coreProperties>
</file>